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B8B-5411-4C16-A8AE-D0FF4D61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5A9-2C9A-4563-8091-03F0DA05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304-3ED6-481B-87CA-9914F9D7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E4E-8E78-4BEB-8628-DCA66233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5CB2-24BC-40F4-AC76-04E39485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F1E-B47C-44E7-9AE8-1F58B11B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323-4CD6-49A6-A0AC-0A525794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57A-B4BB-4449-9943-8ED1EA11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1FB7-4591-40C8-8F61-5DA540A8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770-393D-4A43-A03E-0E9FAC29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F09-929E-4599-A316-FF721382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BBF-D41C-482D-9A7A-D702476E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641D-4275-4FBB-90DF-8C6A52580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Me llamo _________               Clase 7 IM</a:t>
            </a:r>
            <a:br>
              <a:rPr sz="3600"/>
            </a:b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a fecha es el 21 de septiembre del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o # 5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omo repasamos para el examen #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se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 Ame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7080" y="2138400"/>
            <a:ext cx="3857760" cy="4719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5486400" y="236196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11444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65760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048120" y="36576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7242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0199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525780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4724280"/>
            <a:ext cx="1218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791320" y="41148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2209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4648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9718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4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62485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39625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3657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25909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5334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9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 Completa con la forma correcta del verb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Las clases de Jose _________ a las siete y media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empez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ia y yo __________ a bailar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empez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_________ participar en clase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quer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lase y yo no __________ tomar una prueba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quer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ela y Jorge ___________ jugar en un equipo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refer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as ___________ ser espectadora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refer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istribu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01:53Z</dcterms:created>
  <dc:creator>Helen Zumaeta</dc:creator>
  <dc:description/>
  <dc:language>en-US</dc:language>
  <cp:lastModifiedBy>Helen Zumaeta</cp:lastModifiedBy>
  <dcterms:modified xsi:type="dcterms:W3CDTF">2012-09-21T19:15:10Z</dcterms:modified>
  <cp:revision>8</cp:revision>
  <dc:subject/>
  <dc:title>Me llamo _________               Clase 7 IM La fecha es el 21 de septiembre del 2012</dc:title>
</cp:coreProperties>
</file>